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hzipup01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47A-A30A-4290-8AC3-6B5240B7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1F1-3FA8-4423-9420-10C96773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3A8-94DD-41B0-A4B1-E00952FC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E28-B8A5-4600-BC88-1976C55B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8CF0-61B1-4FF3-8818-27DB7994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3EE-5084-443B-B3CC-9845DF4B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BB6A-132C-43BF-9A06-398375DA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71C-02A0-4C46-A9F6-D0B05E96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0C8F-F53E-41DD-A10A-8968E05A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747A-2B13-40CA-A1A3-A7962D74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7584-5D86-4465-9930-BCCAEABC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F9C-4D9A-4FEC-BCE2-92A722FB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FF75-0BDE-41F4-8A1F-D4F413DBE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hzipup01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zapbig0g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hzipup01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zapbig0g.wav"/><Relationship Id="rId26" Type="http://schemas.openxmlformats.org/officeDocument/2006/relationships/audio" Target="../media/zapbig0g.wav"/><Relationship Id="rId27" Type="http://schemas.openxmlformats.org/officeDocument/2006/relationships/audio" Target="../media/zapbig0g.wav"/><Relationship Id="rId28" Type="http://schemas.openxmlformats.org/officeDocument/2006/relationships/audio" Target="../media/zapbig0g.wav"/><Relationship Id="rId29" Type="http://schemas.openxmlformats.org/officeDocument/2006/relationships/audio" Target="../media/zapbig0g.wav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hzipup01.wav"/><Relationship Id="rId16" Type="http://schemas.openxmlformats.org/officeDocument/2006/relationships/audio" Target="../media/hzipup01.wav"/><Relationship Id="rId17" Type="http://schemas.openxmlformats.org/officeDocument/2006/relationships/audio" Target="../media/zapbig0g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zapbig0g.wav"/><Relationship Id="rId21" Type="http://schemas.openxmlformats.org/officeDocument/2006/relationships/audio" Target="../media/zapbig0g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bserie06.wav"/><Relationship Id="rId26" Type="http://schemas.openxmlformats.org/officeDocument/2006/relationships/audio" Target="../media/bserie06.wav"/><Relationship Id="rId27" Type="http://schemas.openxmlformats.org/officeDocument/2006/relationships/audio" Target="../media/bserie06.wav"/><Relationship Id="rId28" Type="http://schemas.openxmlformats.org/officeDocument/2006/relationships/audio" Target="../media/hzipup01.wav"/><Relationship Id="rId29" Type="http://schemas.openxmlformats.org/officeDocument/2006/relationships/audio" Target="../media/zapbig0g.wav"/><Relationship Id="rId30" Type="http://schemas.openxmlformats.org/officeDocument/2006/relationships/audio" Target="../media/hzipup01.wav"/><Relationship Id="rId31" Type="http://schemas.openxmlformats.org/officeDocument/2006/relationships/audio" Target="../media/zapbig0g.wav"/><Relationship Id="rId32" Type="http://schemas.openxmlformats.org/officeDocument/2006/relationships/audio" Target="../media/zapbig0g.wav"/><Relationship Id="rId33" Type="http://schemas.openxmlformats.org/officeDocument/2006/relationships/audio" Target="../media/zapbig0g.wav"/><Relationship Id="rId34" Type="http://schemas.openxmlformats.org/officeDocument/2006/relationships/audio" Target="../media/hzipup01.wav"/><Relationship Id="rId35" Type="http://schemas.openxmlformats.org/officeDocument/2006/relationships/audio" Target="../media/zapbig0g.wav"/><Relationship Id="rId36" Type="http://schemas.openxmlformats.org/officeDocument/2006/relationships/audio" Target="../media/zapbig0g.wav"/><Relationship Id="rId37" Type="http://schemas.openxmlformats.org/officeDocument/2006/relationships/audio" Target="../media/zapbig0g.wav"/><Relationship Id="rId38" Type="http://schemas.openxmlformats.org/officeDocument/2006/relationships/audio" Target="../media/zapbig0g.wav"/><Relationship Id="rId3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Ad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6600" y="184932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  367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65080" y="328608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13040" y="32018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50880" y="245268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9120" y="248616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60600" y="12873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8920" y="320364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52360" y="31957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71880" y="184140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  756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00360" y="327816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31939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02040" y="2430360"/>
            <a:ext cx="131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6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43400" y="24782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95880" y="12794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4200" y="31957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30520" y="3200400"/>
            <a:ext cx="100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37400" y="1827360"/>
            <a:ext cx="26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  1,219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66040" y="3263760"/>
            <a:ext cx="185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04160" y="31798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97840" y="2430360"/>
            <a:ext cx="138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79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9720" y="24638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1720" y="12524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34440" y="31687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81960" y="3186000"/>
            <a:ext cx="7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17880" y="12733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01080" y="12463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82000" y="318924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3920" y="12510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Subtrac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6600" y="184932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  95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65080" y="328608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13040" y="32018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50880" y="245268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9120" y="248616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60600" y="12873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8920" y="320364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52360" y="31957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71880" y="184140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  502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00360" y="327816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31939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02040" y="2430360"/>
            <a:ext cx="131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7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43400" y="24782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95880" y="12794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4200" y="31957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51280" y="3200400"/>
            <a:ext cx="5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37400" y="1827360"/>
            <a:ext cx="26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  5,208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66040" y="3263760"/>
            <a:ext cx="185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04160" y="31798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2430360"/>
            <a:ext cx="138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5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89720" y="24638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34440" y="319716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81960" y="3186000"/>
            <a:ext cx="7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17880" y="12733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01080" y="12463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82000" y="318924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3920" y="12510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596960" y="2090520"/>
            <a:ext cx="362160" cy="4921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5720" y="18464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014720" y="2112480"/>
            <a:ext cx="362160" cy="4921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98960" y="1955880"/>
            <a:ext cx="53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87960" y="2096640"/>
            <a:ext cx="361800" cy="4921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4640" y="1949400"/>
            <a:ext cx="53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270920" y="2088720"/>
            <a:ext cx="361800" cy="4921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37600" y="1941480"/>
            <a:ext cx="53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756480" y="2066400"/>
            <a:ext cx="361800" cy="4921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5320" y="1312920"/>
            <a:ext cx="55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1, 1 – 4 #1-1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3, 1 – 5 #1-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4-08-10T01:44:52Z</dcterms:modified>
  <cp:revision>47</cp:revision>
  <dc:subject/>
  <dc:title>Slide 1</dc:title>
</cp:coreProperties>
</file>